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B1F-2DF4-4D34-8938-9191B98A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857-6610-4054-AC24-9D61798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7A9-38EB-4170-9389-F5520070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462-5BFF-468D-B5A4-0B4F873A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6489-0A58-4766-8374-30FE17DB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517E-8194-421A-9D17-BA158C88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689E-12B0-4CAD-9DAA-DDE2B320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8B0F-5369-44E8-B019-575CBBF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D7CE-1D7A-486F-B62B-E92C7297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625A-C8E7-4BF7-A357-EECE94D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0883-6E05-4926-9969-586A6F1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821-49FA-45A3-B67E-5BE13CB0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4EF1-0811-479C-BA9F-C25C7EA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7292-202D-48A3-BDF3-D0FAD50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05C2-A4DD-4BF0-A2A0-4D096B3F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24CE-B894-4F3E-A693-5E847CD1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5775-1178-4292-B9C3-92A17F26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E7F-7148-444F-92B9-D56D8598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769-CC4A-4DEF-BAE0-ACE84F86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5C8-59B9-42F6-B7A5-E00794B2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8E1-F265-425F-8998-29EE9E8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2DF-EA65-4EAE-9CE4-A2CC366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B53-18C5-4619-A319-F5F72D6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7A1-F74B-45B7-882C-9496DFC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10B5-7426-4005-BEA5-079FA613F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42F-167D-4E07-844B-5C0AAB53A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t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2, Less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1 Corinthians 8-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43-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453-5D28-409B-A894-6AC0C24A76C0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gifts, but the same Spir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activities, but the same God who works all in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gifts are given individually by the Spirit for the profit of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has set function and abilities of different kinds in the church and they are not in competition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030-7C9F-42D3-9CCA-90C0EEC11961}" type="slidenum">
              <a:t>10</a:t>
            </a:fld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one Spirit we were all baptized into one body, but the body is not one member but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estly desire the best gifts, yet love is a more excellent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ever gift we might have, even if we give our bodies to be burned and don’t have love, we are not prof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never fails, spiritual gifts will c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EE8-6B36-4D28-A99C-1C79AE4B63E6}" type="slidenum">
              <a:t>11</a:t>
            </a:fld>
          </a:p>
        </p:txBody>
      </p:sp>
    </p:spTree>
  </p:cSld>
  <p:transition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at which is perfect is come, then that which is in part will be don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will abide faith, hope and love, but the greatest of these is 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to edify, to teach by your g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rderly, God is not the source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the women be silent (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ot taking a public ro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in the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D00-96FB-4134-8EDA-8429E2E28049}" type="slidenum">
              <a:t>12</a:t>
            </a:fld>
          </a:p>
        </p:txBody>
      </p:sp>
    </p:spTree>
  </p:cSld>
  <p:transition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ch there is no 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no resurrection from the dead then Christ is not ri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hrist is not risen, then preaching is vain and faith is vain and all are still in 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sen and has become the firstfruits of those who hav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will reign until all enemies are destroyed and the last enemy destroyed 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9F5-6637-4497-8DAD-E2DB799A6023}" type="slidenum">
              <a:t>13</a:t>
            </a:fld>
          </a:p>
        </p:txBody>
      </p:sp>
    </p:spTree>
  </p:cSld>
  <p:transition>
    <p:comb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rning the collection for the sa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first day of the week let each one of you lay something a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s you have been prosp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exho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ch, stand fast in the faith, be brave, be st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ll that you do be done with l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9CB-E692-47EF-ACF7-BF6C2E839CD1}" type="slidenum">
              <a:t>14</a:t>
            </a:fld>
          </a:p>
        </p:txBody>
      </p:sp>
    </p:spTree>
  </p:cSld>
  <p:transition>
    <p:comb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BC6-D884-4ED3-B0F4-E12D035E4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ing things offered to ido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knowledge but it can puff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edifies and seeks to do what is good fo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dol is a god, it is nothing and there is no other God but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t sacrificed to idols is not contamin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at about the weak bro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513-FF18-41E0-9607-45B8664341FE}" type="slidenum">
              <a:t>3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e right to eat meat sacrificed to idols cause another to defile his consci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ware lest our liberty cause a weak brother to st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tates, “if food makes my brother stumble, I will never again eat mea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aid that he had “rights”, but he hadn’t used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, am I not an apostle? Am I not free? Are you not my work in the Lord? Do we have no right to eat and drin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3F5-A219-476C-9B76-817DCE05DEA4}" type="slidenum">
              <a:t>4</a:t>
            </a:fld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had lived in whatever style necessary in order to convert men to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your goal and strive for a c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rive for a perishable crown, but we for an imperishabl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: “I discipline my body and bring it into subjection lest I myself should become disqualifie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fathers were baptized into Moses, all ate the same spiritual food and drank the same spiritual drink ,yet most of them displeased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ample is our w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F03-276C-4B6A-AD0E-14E5A64B9760}" type="slidenum">
              <a:t>5</a:t>
            </a:fld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become idolaters, do not commit sexual immorality, do not tem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him who thinks he stands take heed lest he 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e idolatry and judge for yourselves, the cup of blessing , is it not the communion of the blood of Christ? The bread which we break, is it not the communion of the body of Chri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be joined to the Lord and to the Devil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D2A-A1C5-41AF-B269-8CBC6CFDF21C}" type="slidenum">
              <a:t>6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ings that are lawful may not be helpful or ed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ffered meat without comment, eat it ,but if told it was offered to idols, don’t eat it for the sake of the one who told you and for conscience’ s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tate Paul just as he also imitated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367-45D3-43CF-AF55-58B9597476AA}" type="slidenum">
              <a:t>7</a:t>
            </a:fld>
          </a:p>
        </p:txBody>
      </p:sp>
    </p:spTree>
  </p:cSld>
  <p:transition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d 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head over man and man is head over wo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man who prays or prophesies with his head covered dishonors his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woman who prays or prophesies with her head uncovered dishonors her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 is the image and glory of God, but woman is the glory of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27D-0737-4ECC-A101-41B336C8B571}" type="slidenum">
              <a:t>8</a:t>
            </a:fld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ake of the Lord’s supper with proper rev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ake it a common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hungry, eat and drink in your own ho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artaking of the Lord’s supper, wait for one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read represents Christ’s body and the cup represents Christ’s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ust eat and drink in a worthy manner discerning the Lord’s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450-9585-462F-BCE9-F9E532339902}" type="slidenum">
              <a:t>9</a:t>
            </a:fld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56:07Z</dcterms:created>
  <dc:creator>billy lauderdale</dc:creator>
  <dc:description/>
  <dc:language>en-US</dc:language>
  <cp:lastModifiedBy>billy lauderdale</cp:lastModifiedBy>
  <dcterms:modified xsi:type="dcterms:W3CDTF">2006-12-21T22:05:11Z</dcterms:modified>
  <cp:revision>31</cp:revision>
  <dc:subject/>
  <dc:title>Go Tell The Good News Part 2</dc:title>
</cp:coreProperties>
</file>